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1800" cy="124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ACECAE-6E01-472F-9855-C5D92927FA5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5956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595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2160"/>
            <a:ext cx="74595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381473-266A-4994-8536-AA941369F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5956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399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79320" y="1600200"/>
            <a:ext cx="36399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2160"/>
            <a:ext cx="36399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79320" y="4142160"/>
            <a:ext cx="36399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7F46DF-8A36-40F9-9761-4B1A11E00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5956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15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79000" y="1600200"/>
            <a:ext cx="24015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0800" y="1600200"/>
            <a:ext cx="24015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2160"/>
            <a:ext cx="24015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79000" y="4142160"/>
            <a:ext cx="24015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0800" y="4142160"/>
            <a:ext cx="24015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C7DEF6-F77C-451C-9D8B-BE5A85E5247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CE1119-C9FC-497B-8E90-84A79B3AD60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5956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5956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DB52E6-203F-41EF-8D40-D55B7549B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5956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5956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2645D1-FEA9-4EA2-859A-99886CCCA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5956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3996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79320" y="1600200"/>
            <a:ext cx="363996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98D701-E4F3-4CFE-886E-74D5B67BE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5956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42C895-59E8-49E3-A71E-5EF3431A9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5956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06AAC6-3257-420F-8C14-56B1940EE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5956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399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79320" y="1600200"/>
            <a:ext cx="363996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2160"/>
            <a:ext cx="36399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B9632D-03D9-418B-98BB-7A22256E4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5956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5956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62C07B-8C68-453D-BBD3-03073BB2C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5956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3996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79320" y="1600200"/>
            <a:ext cx="36399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79320" y="4142160"/>
            <a:ext cx="36399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11B497-4C81-4291-8FE5-2CC4622D2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5956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399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79320" y="1600200"/>
            <a:ext cx="36399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2160"/>
            <a:ext cx="74595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17A3A6-8597-47C8-970E-D21E51DBD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5956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595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2160"/>
            <a:ext cx="74595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AA9A7D-E525-4351-9A53-9419E9805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5956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399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79320" y="1600200"/>
            <a:ext cx="36399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2160"/>
            <a:ext cx="36399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79320" y="4142160"/>
            <a:ext cx="36399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256F00-957F-4B10-A074-60969FA5B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5956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15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79000" y="1600200"/>
            <a:ext cx="24015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0800" y="1600200"/>
            <a:ext cx="24015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2160"/>
            <a:ext cx="24015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79000" y="4142160"/>
            <a:ext cx="24015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0800" y="4142160"/>
            <a:ext cx="24015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C79CD5-8A65-4477-B3CD-BF830D84270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27E1B-39ED-4CB9-9AF5-CB845DEE024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5956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5956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61560-A3AC-4D00-9296-75B746BCB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5956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5956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7B824-BD65-429A-8B91-F200EB773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5956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3996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79320" y="1600200"/>
            <a:ext cx="363996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23DC2-5888-4C23-8965-125EEFDBC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5956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C69B0-79EB-4A21-AAD5-6DA3C3D8C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5956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5956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84E7A1-35A8-4565-82F3-F38B2B0EB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5956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3DCBB-404E-4C87-A63F-38015D141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5956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399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79320" y="1600200"/>
            <a:ext cx="363996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2160"/>
            <a:ext cx="36399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4E72F-318A-4EE0-9359-4AE6EBEF6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5956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3996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79320" y="1600200"/>
            <a:ext cx="36399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79320" y="4142160"/>
            <a:ext cx="36399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BFD7D-D3E9-458D-8184-1B9A32B4E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5956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399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79320" y="1600200"/>
            <a:ext cx="36399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2160"/>
            <a:ext cx="74595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A35D0-CA72-4DBD-8BDF-197E1C52A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5956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595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2160"/>
            <a:ext cx="74595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1B1AD-46A3-41C0-8679-FAC10B467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5956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399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79320" y="1600200"/>
            <a:ext cx="36399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2160"/>
            <a:ext cx="36399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79320" y="4142160"/>
            <a:ext cx="36399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A26C8-8B24-462C-B6D9-E25C6578F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5956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15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79000" y="1600200"/>
            <a:ext cx="24015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0800" y="1600200"/>
            <a:ext cx="24015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2160"/>
            <a:ext cx="24015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79000" y="4142160"/>
            <a:ext cx="24015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0800" y="4142160"/>
            <a:ext cx="24015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86A6A-0723-4BAB-999C-60552C86575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42F57A-1CCD-47C9-AE8C-48FE4885B19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5956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5956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EF281D-2B88-4578-B9E6-BFD9CEA59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5956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5956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5A0B75-0378-47C2-BA0B-37A887EA9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5956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3996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79320" y="1600200"/>
            <a:ext cx="363996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A7CADF-A3C2-4C37-A83B-EA94FB871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5956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3996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79320" y="1600200"/>
            <a:ext cx="363996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B8FAED-1576-4338-BBCA-57EAE4D0D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5956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A02693-D8EB-427C-8307-C545C63D8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5956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7D55AC-8822-453F-9DF5-B8D7AE253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5956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399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79320" y="1600200"/>
            <a:ext cx="363996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2160"/>
            <a:ext cx="36399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384F89-A46B-4105-B567-E72F9EAAD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5956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3996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79320" y="1600200"/>
            <a:ext cx="36399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79320" y="4142160"/>
            <a:ext cx="36399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2BA177-FF4C-447D-9820-D6FCEDFBB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5956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399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79320" y="1600200"/>
            <a:ext cx="36399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2160"/>
            <a:ext cx="74595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78F059-2CC0-47F6-90E0-12FCD9CF9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5956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595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2160"/>
            <a:ext cx="74595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16F7CD-45C4-4F76-AD89-5EA7F6D12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5956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399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79320" y="1600200"/>
            <a:ext cx="36399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2160"/>
            <a:ext cx="36399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79320" y="4142160"/>
            <a:ext cx="36399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EF9A00-EEA0-44A6-9886-AD8164A42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5956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15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79000" y="1600200"/>
            <a:ext cx="24015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0800" y="1600200"/>
            <a:ext cx="24015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2160"/>
            <a:ext cx="24015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79000" y="4142160"/>
            <a:ext cx="24015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0800" y="4142160"/>
            <a:ext cx="24015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C0EF51-6457-4DBD-AF45-B95FB759EC6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59E23BA-FF4B-45DB-9A0B-AA7B4049B7B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5956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62C035-454F-46DF-8B96-39B5F84AF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5956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5956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E36D688-8F49-4736-A441-732553C49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5956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5956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33806A2-D9A4-4F69-9B02-AF4D2439D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5956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3996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79320" y="1600200"/>
            <a:ext cx="363996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A9C2DEE-66CD-490A-AE06-424239B28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5956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7FC5452-522A-44CF-BE32-45718E113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5956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536016E-709D-41B6-8E3E-359465F9A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5956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399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79320" y="1600200"/>
            <a:ext cx="363996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2160"/>
            <a:ext cx="36399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5D6F4D8-2854-4299-9365-BD564E0D3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5956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3996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79320" y="1600200"/>
            <a:ext cx="36399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79320" y="4142160"/>
            <a:ext cx="36399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2A975DF-C0E8-45A2-AD98-DE2639953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5956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399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79320" y="1600200"/>
            <a:ext cx="36399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2160"/>
            <a:ext cx="74595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54C024F-EB52-4365-AB8D-6E6774C41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5956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595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2160"/>
            <a:ext cx="74595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A79389D-20AB-4E25-868C-528709DF2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5956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399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79320" y="1600200"/>
            <a:ext cx="36399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2160"/>
            <a:ext cx="36399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79320" y="4142160"/>
            <a:ext cx="36399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A474B22-9C72-4CF2-ACAA-DA7C78A16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5956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48AC9A-4669-43BD-9C5C-E293B20E8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5956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15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79000" y="1600200"/>
            <a:ext cx="24015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0800" y="1600200"/>
            <a:ext cx="24015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2160"/>
            <a:ext cx="24015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79000" y="4142160"/>
            <a:ext cx="24015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0800" y="4142160"/>
            <a:ext cx="24015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FDB9ACA-9D36-4024-BC98-878411A47F3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E4B74E-5685-4C04-9A58-3C3F01DC2BE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5956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5956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CB3A44-6C11-427C-8050-347B178A7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5956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5956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D674A4-336F-43F2-BFBC-238D92D91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5956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3996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79320" y="1600200"/>
            <a:ext cx="363996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470C75-A2A7-499B-8B2B-D3927BF31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5956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6C0020-2649-4346-B390-05C761C3A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5956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645974-7417-4210-80A8-19EF4D084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5956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399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79320" y="1600200"/>
            <a:ext cx="363996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2160"/>
            <a:ext cx="36399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72FB4A-1C22-4C29-BA99-6E8470ECC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5956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3996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79320" y="1600200"/>
            <a:ext cx="36399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79320" y="4142160"/>
            <a:ext cx="36399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AD4CAB-6AEF-4D06-853C-239F1E919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5956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399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79320" y="1600200"/>
            <a:ext cx="36399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2160"/>
            <a:ext cx="74595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95C2DB-0ECE-4B3D-98AB-953DE70BD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5956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399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79320" y="1600200"/>
            <a:ext cx="363996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2160"/>
            <a:ext cx="36399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10B8DC-0574-4E14-8D01-6964CB0FF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5956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595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2160"/>
            <a:ext cx="74595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98DD12-131B-4AFA-A290-7EB691317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5956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399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79320" y="1600200"/>
            <a:ext cx="36399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2160"/>
            <a:ext cx="36399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79320" y="4142160"/>
            <a:ext cx="36399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E754C9-1611-471E-81CB-B956A6CB0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5956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15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79000" y="1600200"/>
            <a:ext cx="24015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0800" y="1600200"/>
            <a:ext cx="24015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2160"/>
            <a:ext cx="24015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79000" y="4142160"/>
            <a:ext cx="24015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0800" y="4142160"/>
            <a:ext cx="24015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9135F0-8579-4B7B-BD1C-4226DCDC3ED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ABEBA1-1989-4767-A035-81328D50C15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5956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5956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CBADCA1-3021-4996-9E75-4F7420753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5956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5956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0F5D97-0CC9-4641-8A66-94D9A4E2A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5956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3996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79320" y="1600200"/>
            <a:ext cx="363996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584A35-C389-4702-AAF5-DB6E174D8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5956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C0D83F-B57D-4A56-B304-E7D717A2C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5956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F646D9-E1E9-4E96-9713-057D7C6AA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5956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399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79320" y="1600200"/>
            <a:ext cx="363996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2160"/>
            <a:ext cx="36399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48F5ABA-22C3-4119-8032-70EB82AEC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5956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3996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79320" y="1600200"/>
            <a:ext cx="36399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79320" y="4142160"/>
            <a:ext cx="36399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35A1D-B231-41F2-878E-91CFA840E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5956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3996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79320" y="1600200"/>
            <a:ext cx="36399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79320" y="4142160"/>
            <a:ext cx="36399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6E2A50-8DC8-412C-B653-F96D74A0C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5956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399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79320" y="1600200"/>
            <a:ext cx="36399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2160"/>
            <a:ext cx="74595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9DF7D2-FD64-4A7E-8683-A36675B9B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5956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595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2160"/>
            <a:ext cx="74595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B3A936-6102-42C2-B4CF-EEF7C5956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5956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399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79320" y="1600200"/>
            <a:ext cx="36399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2160"/>
            <a:ext cx="36399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79320" y="4142160"/>
            <a:ext cx="36399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79B497-1DF0-40B2-A9A2-F8D00A2BF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5956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15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79000" y="1600200"/>
            <a:ext cx="24015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0800" y="1600200"/>
            <a:ext cx="24015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2160"/>
            <a:ext cx="24015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79000" y="4142160"/>
            <a:ext cx="24015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0800" y="4142160"/>
            <a:ext cx="24015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AD8CA8-7AA1-4A97-9737-0B55401A5A0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5956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399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79320" y="1600200"/>
            <a:ext cx="36399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2160"/>
            <a:ext cx="74595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796F50-7DCD-401F-8195-5C59A8F81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5956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5956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1800" indent="-26676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79360" indent="-17928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54040" indent="-177840">
              <a:spcBef>
                <a:spcPts val="601"/>
              </a:spcBef>
              <a:buClr>
                <a:srgbClr val="fec3ae"/>
              </a:buClr>
              <a:buSzPct val="68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54040" indent="-17784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54040" indent="-17784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8786520" y="266400"/>
            <a:ext cx="200340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02/14/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 rot="5400000">
            <a:off x="6997680" y="3689640"/>
            <a:ext cx="32004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0"/>
            <a:ext cx="144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8129160" y="5734080"/>
            <a:ext cx="601560" cy="5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978779-1FD3-454C-AE9D-BACD8269CEC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0620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14400" y="0"/>
            <a:ext cx="1440" cy="6858000"/>
          </a:xfrm>
          <a:prstGeom prst="line">
            <a:avLst/>
          </a:prstGeom>
          <a:ln w="57240">
            <a:solidFill>
              <a:srgbClr val="ffe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5392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27280" y="0"/>
            <a:ext cx="1440" cy="6858000"/>
          </a:xfrm>
          <a:prstGeom prst="line">
            <a:avLst/>
          </a:prstGeom>
          <a:ln w="284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066680" y="0"/>
            <a:ext cx="180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11376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5956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5956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1800" indent="-26676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79360" indent="-17928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54040" indent="-177840">
              <a:spcBef>
                <a:spcPts val="601"/>
              </a:spcBef>
              <a:buClr>
                <a:srgbClr val="fec3ae"/>
              </a:buClr>
              <a:buSzPct val="68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54040" indent="-17784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54040" indent="-17784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3"/>
          </p:nvPr>
        </p:nvSpPr>
        <p:spPr>
          <a:xfrm>
            <a:off x="9097920" y="220680"/>
            <a:ext cx="2278080" cy="3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  <a:ea typeface="Lucida Sans Unicode"/>
              </a:rPr>
              <a:t>02/14/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rot="5400000">
            <a:off x="7084440" y="4143240"/>
            <a:ext cx="36576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4"/>
          </p:nvPr>
        </p:nvSpPr>
        <p:spPr>
          <a:xfrm>
            <a:off x="1325160" y="4929120"/>
            <a:ext cx="60156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300F51-A022-4F2E-9FFD-721B4CDDF56C}" type="slidenum">
              <a:rPr b="1" lang="en-US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6320" y="0"/>
            <a:ext cx="144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5956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5956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1800" indent="-26676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79360" indent="-17928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54040" indent="-177840">
              <a:spcBef>
                <a:spcPts val="601"/>
              </a:spcBef>
              <a:buClr>
                <a:srgbClr val="fec3ae"/>
              </a:buClr>
              <a:buSzPct val="68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54040" indent="-17784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54040" indent="-17784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5"/>
          </p:nvPr>
        </p:nvSpPr>
        <p:spPr>
          <a:xfrm>
            <a:off x="8786520" y="266400"/>
            <a:ext cx="200340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  <a:ea typeface="Lucida Sans Unicode"/>
              </a:rPr>
              <a:t>02/14/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6"/>
          </p:nvPr>
        </p:nvSpPr>
        <p:spPr>
          <a:xfrm>
            <a:off x="8129160" y="5734080"/>
            <a:ext cx="601560" cy="5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DEDB99-5D6F-49F2-BE46-74F20D78E1D6}" type="slidenum">
              <a:rPr b="1" lang="en-US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5400000">
            <a:off x="6997680" y="3689640"/>
            <a:ext cx="32004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0620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914400" y="0"/>
            <a:ext cx="1440" cy="6858000"/>
          </a:xfrm>
          <a:prstGeom prst="line">
            <a:avLst/>
          </a:prstGeom>
          <a:ln w="57240">
            <a:solidFill>
              <a:srgbClr val="ffe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85392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727280" y="0"/>
            <a:ext cx="1440" cy="6858000"/>
          </a:xfrm>
          <a:prstGeom prst="line">
            <a:avLst/>
          </a:prstGeom>
          <a:ln w="284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066680" y="0"/>
            <a:ext cx="180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909792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5956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5956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1800" indent="-26676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79360" indent="-17928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54040" indent="-177840">
              <a:spcBef>
                <a:spcPts val="601"/>
              </a:spcBef>
              <a:buClr>
                <a:srgbClr val="fec3ae"/>
              </a:buClr>
              <a:buSzPct val="68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54040" indent="-17784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54040" indent="-17784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7"/>
          </p:nvPr>
        </p:nvSpPr>
        <p:spPr>
          <a:xfrm>
            <a:off x="9096480" y="217440"/>
            <a:ext cx="2278080" cy="3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  <a:ea typeface="Lucida Sans Unicode"/>
              </a:rPr>
              <a:t>02/14/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rot="5400000">
            <a:off x="7084440" y="4140000"/>
            <a:ext cx="36576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sldNum" idx="8"/>
          </p:nvPr>
        </p:nvSpPr>
        <p:spPr>
          <a:xfrm>
            <a:off x="1339560" y="4929120"/>
            <a:ext cx="60156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BA6C0A-5F0A-43FE-BBAD-B480DF10FC80}" type="slidenum">
              <a:rPr b="1" lang="en-US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6320" y="0"/>
            <a:ext cx="144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5956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5956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1800" indent="-26676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79360" indent="-17928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54040" indent="-177840">
              <a:spcBef>
                <a:spcPts val="601"/>
              </a:spcBef>
              <a:buClr>
                <a:srgbClr val="fec3ae"/>
              </a:buClr>
              <a:buSzPct val="68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54040" indent="-17784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54040" indent="-17784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9"/>
          </p:nvPr>
        </p:nvSpPr>
        <p:spPr>
          <a:xfrm>
            <a:off x="8786520" y="266400"/>
            <a:ext cx="200340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  <a:ea typeface="Lucida Sans Unicode"/>
              </a:rPr>
              <a:t>02/14/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0"/>
          </p:nvPr>
        </p:nvSpPr>
        <p:spPr>
          <a:xfrm>
            <a:off x="8129160" y="5734080"/>
            <a:ext cx="601560" cy="5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8B9D92-614A-41F7-9EFB-0BC4C29FFB8B}" type="slidenum">
              <a:rPr b="1" lang="en-US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rot="5400000">
            <a:off x="6997680" y="3689640"/>
            <a:ext cx="32004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2485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192720" y="0"/>
            <a:ext cx="180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5956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5956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1800" indent="-26676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79360" indent="-17928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54040" indent="-177840">
              <a:spcBef>
                <a:spcPts val="601"/>
              </a:spcBef>
              <a:buClr>
                <a:srgbClr val="fec3ae"/>
              </a:buClr>
              <a:buSzPct val="68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54040" indent="-17784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54040" indent="-17784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1"/>
          </p:nvPr>
        </p:nvSpPr>
        <p:spPr>
          <a:xfrm>
            <a:off x="8786520" y="266400"/>
            <a:ext cx="200340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  <a:ea typeface="Lucida Sans Unicode"/>
              </a:rPr>
              <a:t>02/14/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2"/>
          </p:nvPr>
        </p:nvSpPr>
        <p:spPr>
          <a:xfrm>
            <a:off x="8129160" y="5734080"/>
            <a:ext cx="601560" cy="5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D0586E-7B89-461C-8401-50501474456D}" type="slidenum">
              <a:rPr b="1" lang="en-US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rot="5400000">
            <a:off x="6997680" y="3689640"/>
            <a:ext cx="32004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2485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192720" y="0"/>
            <a:ext cx="180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5956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5956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1800" indent="-26676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79360" indent="-17928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54040" indent="-177840">
              <a:spcBef>
                <a:spcPts val="601"/>
              </a:spcBef>
              <a:buClr>
                <a:srgbClr val="fec3ae"/>
              </a:buClr>
              <a:buSzPct val="68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54040" indent="-17784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54040" indent="-17784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3"/>
          </p:nvPr>
        </p:nvSpPr>
        <p:spPr>
          <a:xfrm>
            <a:off x="8786520" y="266400"/>
            <a:ext cx="200340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  <a:ea typeface="Lucida Sans Unicode"/>
              </a:rPr>
              <a:t>02/14/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14"/>
          </p:nvPr>
        </p:nvSpPr>
        <p:spPr>
          <a:xfrm>
            <a:off x="8129160" y="5734080"/>
            <a:ext cx="601560" cy="5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514041-FA11-4C74-94B1-D3BECAA554C0}" type="slidenum">
              <a:rPr b="1" lang="en-US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rot="5400000">
            <a:off x="6997680" y="3689640"/>
            <a:ext cx="32004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26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k2eGoHk9AAc" TargetMode="External"/><Relationship Id="rId2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914400" y="304920"/>
            <a:ext cx="76201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SLEEP DISORDER: RESTLESS LEGS SYNDROME (RLS)</a:t>
            </a:r>
            <a:r>
              <a:rPr b="1" lang="ar-SA" sz="3000" spc="-1" strike="noStrike">
                <a:solidFill>
                  <a:srgbClr val="575f6d"/>
                </a:solidFill>
                <a:latin typeface="Century Schoolbook"/>
                <a:ea typeface="Arial"/>
              </a:rPr>
              <a:t>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8288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Group 2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Erica, Muneera, Shakiba, Wakil, Ma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2133720" y="5330880"/>
            <a:ext cx="6933960" cy="152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DEFINITION OF R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45720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Font typeface="Wingdings" charset="2"/>
              <a:buChar char=""/>
              <a:tabLst>
                <a:tab algn="l" pos="264960"/>
                <a:tab algn="l" pos="722160"/>
                <a:tab algn="l" pos="1179360"/>
                <a:tab algn="l" pos="1636560"/>
                <a:tab algn="l" pos="2093760"/>
                <a:tab algn="l" pos="2550960"/>
                <a:tab algn="l" pos="3008160"/>
                <a:tab algn="l" pos="3465360"/>
                <a:tab algn="l" pos="3922560"/>
                <a:tab algn="l" pos="4379760"/>
                <a:tab algn="l" pos="4836960"/>
                <a:tab algn="l" pos="5294160"/>
                <a:tab algn="l" pos="5751360"/>
                <a:tab algn="l" pos="6208560"/>
                <a:tab algn="l" pos="6665760"/>
                <a:tab algn="l" pos="7122960"/>
                <a:tab algn="l" pos="7580160"/>
                <a:tab algn="l" pos="8037360"/>
                <a:tab algn="l" pos="8494560"/>
                <a:tab algn="l" pos="8951760"/>
                <a:tab algn="l" pos="94089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neurological disord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Font typeface="Wingdings" charset="2"/>
              <a:buChar char=""/>
              <a:tabLst>
                <a:tab algn="l" pos="264960"/>
                <a:tab algn="l" pos="722160"/>
                <a:tab algn="l" pos="1179360"/>
                <a:tab algn="l" pos="1636560"/>
                <a:tab algn="l" pos="2093760"/>
                <a:tab algn="l" pos="2550960"/>
                <a:tab algn="l" pos="3008160"/>
                <a:tab algn="l" pos="3465360"/>
                <a:tab algn="l" pos="3922560"/>
                <a:tab algn="l" pos="4379760"/>
                <a:tab algn="l" pos="4836960"/>
                <a:tab algn="l" pos="5294160"/>
                <a:tab algn="l" pos="5751360"/>
                <a:tab algn="l" pos="6208560"/>
                <a:tab algn="l" pos="6665760"/>
                <a:tab algn="l" pos="7122960"/>
                <a:tab algn="l" pos="7580160"/>
                <a:tab algn="l" pos="8037360"/>
                <a:tab algn="l" pos="8494560"/>
                <a:tab algn="l" pos="8951760"/>
                <a:tab algn="l" pos="94089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haracterized by unpleasant sensations in the le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Font typeface="Wingdings" charset="2"/>
              <a:buChar char=""/>
              <a:tabLst>
                <a:tab algn="l" pos="264960"/>
                <a:tab algn="l" pos="722160"/>
                <a:tab algn="l" pos="1179360"/>
                <a:tab algn="l" pos="1636560"/>
                <a:tab algn="l" pos="2093760"/>
                <a:tab algn="l" pos="2550960"/>
                <a:tab algn="l" pos="3008160"/>
                <a:tab algn="l" pos="3465360"/>
                <a:tab algn="l" pos="3922560"/>
                <a:tab algn="l" pos="4379760"/>
                <a:tab algn="l" pos="4836960"/>
                <a:tab algn="l" pos="5294160"/>
                <a:tab algn="l" pos="5751360"/>
                <a:tab algn="l" pos="6208560"/>
                <a:tab algn="l" pos="6665760"/>
                <a:tab algn="l" pos="7122960"/>
                <a:tab algn="l" pos="7580160"/>
                <a:tab algn="l" pos="8037360"/>
                <a:tab algn="l" pos="8494560"/>
                <a:tab algn="l" pos="8951760"/>
                <a:tab algn="l" pos="94089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10% of the U.S. population have R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Font typeface="Wingdings" charset="2"/>
              <a:buChar char=""/>
              <a:tabLst>
                <a:tab algn="l" pos="264960"/>
                <a:tab algn="l" pos="722160"/>
                <a:tab algn="l" pos="1179360"/>
                <a:tab algn="l" pos="1636560"/>
                <a:tab algn="l" pos="2093760"/>
                <a:tab algn="l" pos="2550960"/>
                <a:tab algn="l" pos="3008160"/>
                <a:tab algn="l" pos="3465360"/>
                <a:tab algn="l" pos="3922560"/>
                <a:tab algn="l" pos="4379760"/>
                <a:tab algn="l" pos="4836960"/>
                <a:tab algn="l" pos="5294160"/>
                <a:tab algn="l" pos="5751360"/>
                <a:tab algn="l" pos="6208560"/>
                <a:tab algn="l" pos="6665760"/>
                <a:tab algn="l" pos="7122960"/>
                <a:tab algn="l" pos="7580160"/>
                <a:tab algn="l" pos="8037360"/>
                <a:tab algn="l" pos="8494560"/>
                <a:tab algn="l" pos="8951760"/>
                <a:tab algn="l" pos="94089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lmost 1 million school age children aff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Font typeface="Wingdings" charset="2"/>
              <a:buChar char=""/>
              <a:tabLst>
                <a:tab algn="l" pos="264960"/>
                <a:tab algn="l" pos="722160"/>
                <a:tab algn="l" pos="1179360"/>
                <a:tab algn="l" pos="1636560"/>
                <a:tab algn="l" pos="2093760"/>
                <a:tab algn="l" pos="2550960"/>
                <a:tab algn="l" pos="3008160"/>
                <a:tab algn="l" pos="3465360"/>
                <a:tab algn="l" pos="3922560"/>
                <a:tab algn="l" pos="4379760"/>
                <a:tab algn="l" pos="4836960"/>
                <a:tab algn="l" pos="5294160"/>
                <a:tab algn="l" pos="5751360"/>
                <a:tab algn="l" pos="6208560"/>
                <a:tab algn="l" pos="6665760"/>
                <a:tab algn="l" pos="7122960"/>
                <a:tab algn="l" pos="7580160"/>
                <a:tab algn="l" pos="8037360"/>
                <a:tab algn="l" pos="8494560"/>
                <a:tab algn="l" pos="8951760"/>
                <a:tab algn="l" pos="94089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often wrongly attribute  by physici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Font typeface="Wingdings" charset="2"/>
              <a:buChar char=""/>
              <a:tabLst>
                <a:tab algn="l" pos="264960"/>
                <a:tab algn="l" pos="722160"/>
                <a:tab algn="l" pos="1179360"/>
                <a:tab algn="l" pos="1636560"/>
                <a:tab algn="l" pos="2093760"/>
                <a:tab algn="l" pos="2550960"/>
                <a:tab algn="l" pos="3008160"/>
                <a:tab algn="l" pos="3465360"/>
                <a:tab algn="l" pos="3922560"/>
                <a:tab algn="l" pos="4379760"/>
                <a:tab algn="l" pos="4836960"/>
                <a:tab algn="l" pos="5294160"/>
                <a:tab algn="l" pos="5751360"/>
                <a:tab algn="l" pos="6208560"/>
                <a:tab algn="l" pos="6665760"/>
                <a:tab algn="l" pos="7122960"/>
                <a:tab algn="l" pos="7580160"/>
                <a:tab algn="l" pos="8037360"/>
                <a:tab algn="l" pos="8494560"/>
                <a:tab algn="l" pos="8951760"/>
                <a:tab algn="l" pos="94089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no specific test to identify R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304920" y="5029200"/>
            <a:ext cx="7619760" cy="167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YMPTOMS OF R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57200" y="1600200"/>
            <a:ext cx="8229600" cy="32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Font typeface="Wingdings" charset="2"/>
              <a:buChar char=""/>
              <a:tabLst>
                <a:tab algn="l" pos="264960"/>
                <a:tab algn="l" pos="722160"/>
                <a:tab algn="l" pos="1179360"/>
                <a:tab algn="l" pos="1636560"/>
                <a:tab algn="l" pos="2093760"/>
                <a:tab algn="l" pos="2550960"/>
                <a:tab algn="l" pos="3008160"/>
                <a:tab algn="l" pos="3465360"/>
                <a:tab algn="l" pos="3922560"/>
                <a:tab algn="l" pos="4379760"/>
                <a:tab algn="l" pos="4836960"/>
                <a:tab algn="l" pos="5294160"/>
                <a:tab algn="l" pos="5751360"/>
                <a:tab algn="l" pos="6208560"/>
                <a:tab algn="l" pos="6665760"/>
                <a:tab algn="l" pos="7122960"/>
                <a:tab algn="l" pos="7580160"/>
                <a:tab algn="l" pos="8037360"/>
                <a:tab algn="l" pos="8494560"/>
                <a:tab algn="l" pos="8951760"/>
                <a:tab algn="l" pos="940896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uncomfortable sensations in the leg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Font typeface="Wingdings" charset="2"/>
              <a:buChar char=""/>
              <a:tabLst>
                <a:tab algn="l" pos="264960"/>
                <a:tab algn="l" pos="722160"/>
                <a:tab algn="l" pos="1179360"/>
                <a:tab algn="l" pos="1636560"/>
                <a:tab algn="l" pos="2093760"/>
                <a:tab algn="l" pos="2550960"/>
                <a:tab algn="l" pos="3008160"/>
                <a:tab algn="l" pos="3465360"/>
                <a:tab algn="l" pos="3922560"/>
                <a:tab algn="l" pos="4379760"/>
                <a:tab algn="l" pos="4836960"/>
                <a:tab algn="l" pos="5294160"/>
                <a:tab algn="l" pos="5751360"/>
                <a:tab algn="l" pos="6208560"/>
                <a:tab algn="l" pos="6665760"/>
                <a:tab algn="l" pos="7122960"/>
                <a:tab algn="l" pos="7580160"/>
                <a:tab algn="l" pos="8037360"/>
                <a:tab algn="l" pos="8494560"/>
                <a:tab algn="l" pos="8951760"/>
                <a:tab algn="l" pos="940896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disrupted slee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Font typeface="Wingdings" charset="2"/>
              <a:buChar char=""/>
              <a:tabLst>
                <a:tab algn="l" pos="264960"/>
                <a:tab algn="l" pos="722160"/>
                <a:tab algn="l" pos="1179360"/>
                <a:tab algn="l" pos="1636560"/>
                <a:tab algn="l" pos="2093760"/>
                <a:tab algn="l" pos="2550960"/>
                <a:tab algn="l" pos="3008160"/>
                <a:tab algn="l" pos="3465360"/>
                <a:tab algn="l" pos="3922560"/>
                <a:tab algn="l" pos="4379760"/>
                <a:tab algn="l" pos="4836960"/>
                <a:tab algn="l" pos="5294160"/>
                <a:tab algn="l" pos="5751360"/>
                <a:tab algn="l" pos="6208560"/>
                <a:tab algn="l" pos="6665760"/>
                <a:tab algn="l" pos="7122960"/>
                <a:tab algn="l" pos="7580160"/>
                <a:tab algn="l" pos="8037360"/>
                <a:tab algn="l" pos="8494560"/>
                <a:tab algn="l" pos="8951760"/>
                <a:tab algn="l" pos="940896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difficulty falling asleep and staying aslee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Font typeface="Wingdings" charset="2"/>
              <a:buChar char=""/>
              <a:tabLst>
                <a:tab algn="l" pos="264960"/>
                <a:tab algn="l" pos="722160"/>
                <a:tab algn="l" pos="1179360"/>
                <a:tab algn="l" pos="1636560"/>
                <a:tab algn="l" pos="2093760"/>
                <a:tab algn="l" pos="2550960"/>
                <a:tab algn="l" pos="3008160"/>
                <a:tab algn="l" pos="3465360"/>
                <a:tab algn="l" pos="3922560"/>
                <a:tab algn="l" pos="4379760"/>
                <a:tab algn="l" pos="4836960"/>
                <a:tab algn="l" pos="5294160"/>
                <a:tab algn="l" pos="5751360"/>
                <a:tab algn="l" pos="6208560"/>
                <a:tab algn="l" pos="6665760"/>
                <a:tab algn="l" pos="7122960"/>
                <a:tab algn="l" pos="7580160"/>
                <a:tab algn="l" pos="8037360"/>
                <a:tab algn="l" pos="8494560"/>
                <a:tab algn="l" pos="8951760"/>
                <a:tab algn="l" pos="940896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exhaustion and daytime fatigu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64960"/>
                <a:tab algn="l" pos="722160"/>
                <a:tab algn="l" pos="1179360"/>
                <a:tab algn="l" pos="1636560"/>
                <a:tab algn="l" pos="2093760"/>
                <a:tab algn="l" pos="2550960"/>
                <a:tab algn="l" pos="3008160"/>
                <a:tab algn="l" pos="3465360"/>
                <a:tab algn="l" pos="3922560"/>
                <a:tab algn="l" pos="4379760"/>
                <a:tab algn="l" pos="4836960"/>
                <a:tab algn="l" pos="5294160"/>
                <a:tab algn="l" pos="5751360"/>
                <a:tab algn="l" pos="6208560"/>
                <a:tab algn="l" pos="6665760"/>
                <a:tab algn="l" pos="7122960"/>
                <a:tab algn="l" pos="7580160"/>
                <a:tab algn="l" pos="8037360"/>
                <a:tab algn="l" pos="8494560"/>
                <a:tab algn="l" pos="8951760"/>
                <a:tab algn="l" pos="94089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64960"/>
                <a:tab algn="l" pos="722160"/>
                <a:tab algn="l" pos="1179360"/>
                <a:tab algn="l" pos="1636560"/>
                <a:tab algn="l" pos="2093760"/>
                <a:tab algn="l" pos="2550960"/>
                <a:tab algn="l" pos="3008160"/>
                <a:tab algn="l" pos="3465360"/>
                <a:tab algn="l" pos="3922560"/>
                <a:tab algn="l" pos="4379760"/>
                <a:tab algn="l" pos="4836960"/>
                <a:tab algn="l" pos="5294160"/>
                <a:tab algn="l" pos="5751360"/>
                <a:tab algn="l" pos="6208560"/>
                <a:tab algn="l" pos="6665760"/>
                <a:tab algn="l" pos="7122960"/>
                <a:tab algn="l" pos="7580160"/>
                <a:tab algn="l" pos="8037360"/>
                <a:tab algn="l" pos="8494560"/>
                <a:tab algn="l" pos="8951760"/>
                <a:tab algn="l" pos="94089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304920" y="5062680"/>
            <a:ext cx="7619760" cy="167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3000" spc="-1" strike="noStrike">
                <a:solidFill>
                  <a:srgbClr val="575f6d"/>
                </a:solidFill>
                <a:latin typeface="Century Schoolbook"/>
              </a:rPr>
              <a:t>HOW DOES IT FEEL LIKE..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695160" y="1676520"/>
            <a:ext cx="4789800" cy="4566960"/>
            <a:chOff x="695160" y="1676520"/>
            <a:chExt cx="4789800" cy="4566960"/>
          </a:xfrm>
        </p:grpSpPr>
        <p:pic>
          <p:nvPicPr>
            <p:cNvPr id="369" name="" descr=""/>
            <p:cNvPicPr/>
            <p:nvPr/>
          </p:nvPicPr>
          <p:blipFill>
            <a:blip r:embed="rId1"/>
            <a:srcRect l="-3425" t="0" r="-3425" b="0"/>
            <a:stretch/>
          </p:blipFill>
          <p:spPr>
            <a:xfrm>
              <a:off x="695160" y="1676520"/>
              <a:ext cx="4789800" cy="4566960"/>
            </a:xfrm>
            <a:prstGeom prst="rect">
              <a:avLst/>
            </a:prstGeom>
            <a:ln w="76320">
              <a:solidFill>
                <a:srgbClr val="000000"/>
              </a:solidFill>
              <a:miter/>
            </a:ln>
          </p:spPr>
        </p:pic>
        <p:sp>
          <p:nvSpPr>
            <p:cNvPr id="370" name=""/>
            <p:cNvSpPr/>
            <p:nvPr/>
          </p:nvSpPr>
          <p:spPr>
            <a:xfrm>
              <a:off x="695160" y="1676520"/>
              <a:ext cx="4789800" cy="456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1" name="" descr=""/>
          <p:cNvPicPr/>
          <p:nvPr/>
        </p:nvPicPr>
        <p:blipFill>
          <a:blip r:embed="rId2"/>
          <a:stretch/>
        </p:blipFill>
        <p:spPr>
          <a:xfrm>
            <a:off x="5715000" y="1676520"/>
            <a:ext cx="2057400" cy="45720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6840" y="177480"/>
            <a:ext cx="7467480" cy="12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575f6d"/>
                </a:solidFill>
                <a:latin typeface="Century Schoolbook"/>
              </a:rPr>
              <a:t>Causes of RLS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3" name=""/>
          <p:cNvSpPr/>
          <p:nvPr/>
        </p:nvSpPr>
        <p:spPr>
          <a:xfrm>
            <a:off x="45720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" descr=""/>
          <p:cNvPicPr/>
          <p:nvPr/>
        </p:nvPicPr>
        <p:blipFill>
          <a:blip r:embed="rId1"/>
          <a:stretch/>
        </p:blipFill>
        <p:spPr>
          <a:xfrm>
            <a:off x="304920" y="5029200"/>
            <a:ext cx="7696080" cy="1695600"/>
          </a:xfrm>
          <a:prstGeom prst="rect">
            <a:avLst/>
          </a:prstGeom>
          <a:ln w="0">
            <a:noFill/>
          </a:ln>
        </p:spPr>
      </p:pic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533520" y="1298520"/>
            <a:ext cx="7696080" cy="35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MS Gothic"/>
              </a:rPr>
              <a:t>Heredity.         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1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MS Gothic"/>
              </a:rPr>
              <a:t>Pregnancy.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Aft>
                <a:spcPts val="106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MS Gothic"/>
              </a:rPr>
              <a:t>Related conditions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1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MS Gothic"/>
              </a:rPr>
              <a:t>Peripheral neuropathy.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1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MS Gothic"/>
              </a:rPr>
              <a:t>Iron deficiency.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1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MS Gothic"/>
              </a:rPr>
              <a:t>Kidney failure.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2"/>
          <a:stretch/>
        </p:blipFill>
        <p:spPr>
          <a:xfrm>
            <a:off x="2514600" y="1371600"/>
            <a:ext cx="2062080" cy="1143000"/>
          </a:xfrm>
          <a:prstGeom prst="rect">
            <a:avLst/>
          </a:prstGeom>
          <a:ln w="0">
            <a:noFill/>
          </a:ln>
        </p:spPr>
      </p:pic>
      <p:pic>
        <p:nvPicPr>
          <p:cNvPr id="377" name="" descr=""/>
          <p:cNvPicPr/>
          <p:nvPr/>
        </p:nvPicPr>
        <p:blipFill>
          <a:blip r:embed="rId3"/>
          <a:stretch/>
        </p:blipFill>
        <p:spPr>
          <a:xfrm>
            <a:off x="4572000" y="1371600"/>
            <a:ext cx="2057400" cy="1600200"/>
          </a:xfrm>
          <a:prstGeom prst="rect">
            <a:avLst/>
          </a:prstGeom>
          <a:ln w="0">
            <a:noFill/>
          </a:ln>
        </p:spPr>
      </p:pic>
      <p:pic>
        <p:nvPicPr>
          <p:cNvPr id="378" name="" descr=""/>
          <p:cNvPicPr/>
          <p:nvPr/>
        </p:nvPicPr>
        <p:blipFill>
          <a:blip r:embed="rId4"/>
          <a:stretch/>
        </p:blipFill>
        <p:spPr>
          <a:xfrm>
            <a:off x="3844800" y="2971800"/>
            <a:ext cx="1870200" cy="1600200"/>
          </a:xfrm>
          <a:prstGeom prst="rect">
            <a:avLst/>
          </a:prstGeom>
          <a:ln w="0">
            <a:noFill/>
          </a:ln>
        </p:spPr>
      </p:pic>
      <p:pic>
        <p:nvPicPr>
          <p:cNvPr id="379" name="" descr=""/>
          <p:cNvPicPr/>
          <p:nvPr/>
        </p:nvPicPr>
        <p:blipFill>
          <a:blip r:embed="rId5"/>
          <a:stretch/>
        </p:blipFill>
        <p:spPr>
          <a:xfrm>
            <a:off x="5715000" y="2971800"/>
            <a:ext cx="1666800" cy="1828800"/>
          </a:xfrm>
          <a:prstGeom prst="rect">
            <a:avLst/>
          </a:prstGeom>
          <a:ln w="0">
            <a:noFill/>
          </a:ln>
        </p:spPr>
      </p:pic>
      <p:pic>
        <p:nvPicPr>
          <p:cNvPr id="380" name="" descr=""/>
          <p:cNvPicPr/>
          <p:nvPr/>
        </p:nvPicPr>
        <p:blipFill>
          <a:blip r:embed="rId6"/>
          <a:stretch/>
        </p:blipFill>
        <p:spPr>
          <a:xfrm>
            <a:off x="7315200" y="1495440"/>
            <a:ext cx="1371600" cy="284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575f6d"/>
                </a:solidFill>
                <a:latin typeface="Century Schoolbook"/>
              </a:rPr>
              <a:t>TREATMENTS AND/OR CURES OF R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457200" y="1371600"/>
            <a:ext cx="8229600" cy="51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Font typeface="Wingdings" charset="2"/>
              <a:buChar char="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No primary cu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Font typeface="Wingdings" charset="2"/>
              <a:buChar char="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Schoolbook"/>
              </a:rPr>
              <a:t>Avoid substance/food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 that may cause worsening or problem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Font typeface="Wingdings" charset="2"/>
              <a:buChar char="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Schoolbook"/>
              </a:rPr>
              <a:t>treat underling medical condition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Font typeface="Wingdings" charset="2"/>
              <a:buChar char="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Schoolbook"/>
              </a:rPr>
              <a:t>Physical therapy/self-car treat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Font typeface="Wingdings" charset="2"/>
              <a:buChar char="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Schoolbook"/>
              </a:rPr>
              <a:t>Daily medication is recommended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http://www.webmd.com/sleep-disorders/tc/restless-legs-syndrome-rls-treatment-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1"/>
          <a:stretch/>
        </p:blipFill>
        <p:spPr>
          <a:xfrm>
            <a:off x="457200" y="5334120"/>
            <a:ext cx="7696080" cy="152388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2"/>
          <a:stretch/>
        </p:blipFill>
        <p:spPr>
          <a:xfrm>
            <a:off x="7543800" y="1523880"/>
            <a:ext cx="1057320" cy="762120"/>
          </a:xfrm>
          <a:prstGeom prst="rect">
            <a:avLst/>
          </a:prstGeom>
          <a:ln w="0">
            <a:noFill/>
          </a:ln>
        </p:spPr>
      </p:pic>
      <p:pic>
        <p:nvPicPr>
          <p:cNvPr id="385" name="" descr=""/>
          <p:cNvPicPr/>
          <p:nvPr/>
        </p:nvPicPr>
        <p:blipFill>
          <a:blip r:embed="rId3"/>
          <a:stretch/>
        </p:blipFill>
        <p:spPr>
          <a:xfrm>
            <a:off x="5257800" y="2057400"/>
            <a:ext cx="1943280" cy="1447920"/>
          </a:xfrm>
          <a:prstGeom prst="rect">
            <a:avLst/>
          </a:prstGeom>
          <a:ln w="0">
            <a:noFill/>
          </a:ln>
        </p:spPr>
      </p:pic>
      <p:pic>
        <p:nvPicPr>
          <p:cNvPr id="386" name="" descr=""/>
          <p:cNvPicPr/>
          <p:nvPr/>
        </p:nvPicPr>
        <p:blipFill>
          <a:blip r:embed="rId4"/>
          <a:stretch/>
        </p:blipFill>
        <p:spPr>
          <a:xfrm>
            <a:off x="7238880" y="2209680"/>
            <a:ext cx="1447920" cy="121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7461360" cy="10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Video Introdu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57200" y="1644120"/>
            <a:ext cx="7461360" cy="4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Century Schoolbook"/>
                <a:hlinkClick r:id="rId1"/>
              </a:rPr>
              <a:t>http://www.youtube.com/watch?v=k2eGoHk9AAc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hlone College</dc:creator>
  <dc:description/>
  <dc:language>en-US</dc:language>
  <cp:lastModifiedBy>vcurtis</cp:lastModifiedBy>
  <dcterms:modified xsi:type="dcterms:W3CDTF">2011-03-07T20:14:14Z</dcterms:modified>
  <cp:revision>1</cp:revision>
  <dc:subject/>
  <dc:title>Restless leg syndrome Fact Sheet </dc:title>
</cp:coreProperties>
</file>